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A27-7EFF-4C0F-9B5E-42CBD175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5CB5-5A79-4B64-90B4-3D1F6744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63CB-A7D1-497F-9E82-8C1BF640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AC48-9847-49B7-BF66-E61ACB61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51EC-B593-4763-BD40-B92B5AD0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506B-5E68-4F31-9C32-211FA2DD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F258-4D9B-47D4-B24D-E821CD15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BFA7-56B2-4C85-A033-0BFA544A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425A-4D25-40FD-A880-E921ACA1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9AB6-2D8A-4D29-9188-F95BDF95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86A6-D1D5-480E-9A33-602965BA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07F-106D-4E30-8CD7-66192F56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5EAB-7062-4051-B706-EDE2A05E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8E35-CC59-4C5D-BD50-825B5B2E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9B28-BA9D-4422-8D82-A54E70EC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837D-34A0-4EE3-A0CE-249D2F22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B0ED-B349-4F01-88CF-2728D8E9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81B-C24A-48CC-AE3E-CEA72AD9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6831-4361-45D1-B898-3293D7AF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5D37-86D1-44EA-9EE8-8CA69E2C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6E6-9540-4208-BD25-5B6A57F7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52C-521D-46CC-BB8D-45E74A8C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12B-FF50-4509-9159-95653B48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E6B-B4EB-4ABB-BB40-9C3A41CE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59b0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59b0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26cb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26cb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ECEE-9E7B-4A28-B6EC-6DC17E2CA7A6}" type="slidenum"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59b0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26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26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C372-52FB-4CE9-9630-7E2AB9F02A4F}" type="slidenum"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 Jour d’un Hérisson 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eced"/>
                </a:solidFill>
                <a:latin typeface="Arial"/>
              </a:rPr>
              <a:t>P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eced"/>
                </a:solidFill>
                <a:latin typeface="Arial"/>
              </a:rPr>
              <a:t>Brenna Abbot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eced"/>
                </a:solidFill>
                <a:latin typeface="Arial"/>
              </a:rPr>
              <a:t>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eced"/>
                </a:solidFill>
                <a:latin typeface="Arial"/>
              </a:rPr>
              <a:t>Sarah S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fait la vaisselle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lave-vaisselle est brisé maintenant! Pierre faut faire la vaisselle dans l’évi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8" descr="http://hararie-japan-tokyo-tokyo.com/japanese_alphabet/2010/06/21/Clearing-off-the-table-and-doing-the-dishes.gif"/>
          <p:cNvPicPr/>
          <p:nvPr/>
        </p:nvPicPr>
        <p:blipFill>
          <a:blip r:embed="rId1"/>
          <a:stretch/>
        </p:blipFill>
        <p:spPr>
          <a:xfrm>
            <a:off x="6477120" y="2905200"/>
            <a:ext cx="2666880" cy="3952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http://img0.etsystatic.com/il_170x135.91020824.jpg"/>
          <p:cNvPicPr/>
          <p:nvPr/>
        </p:nvPicPr>
        <p:blipFill>
          <a:blip r:embed="rId2"/>
          <a:stretch/>
        </p:blipFill>
        <p:spPr>
          <a:xfrm>
            <a:off x="762120" y="5572080"/>
            <a:ext cx="16192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se lave les dents. 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s dents sont très blanch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8" descr="http://teethwhitens.com/wp-content/uploads/2011/10/tooth-brush1.png"/>
          <p:cNvPicPr/>
          <p:nvPr/>
        </p:nvPicPr>
        <p:blipFill>
          <a:blip r:embed="rId1"/>
          <a:stretch/>
        </p:blipFill>
        <p:spPr>
          <a:xfrm>
            <a:off x="762120" y="5205240"/>
            <a:ext cx="3429000" cy="1652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http://t2.gstatic.com/images?q=tbn:ANd9GcQqUb1ft8jRft373jyNRURcCz3QZfrxXuZD2WSRztBERdR1csLj4A"/>
          <p:cNvPicPr/>
          <p:nvPr/>
        </p:nvPicPr>
        <p:blipFill>
          <a:blip r:embed="rId2"/>
          <a:stretch/>
        </p:blipFill>
        <p:spPr>
          <a:xfrm>
            <a:off x="4584600" y="2949480"/>
            <a:ext cx="455940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se brosse les cheveux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est très beau, n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63360" y="-82548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" descr="http://www.evanmorris.com/weblog/hedgehogSOLENT2708_468x298.jpg"/>
          <p:cNvPicPr/>
          <p:nvPr/>
        </p:nvPicPr>
        <p:blipFill>
          <a:blip r:embed="rId1"/>
          <a:stretch/>
        </p:blipFill>
        <p:spPr>
          <a:xfrm>
            <a:off x="4686480" y="3200400"/>
            <a:ext cx="44575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regarde la télévision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met la télé. Alors, il change de ch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îne. L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mission est son favorite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http://www.awf.org/files/3904_file_hedgehog1.jpg"/>
          <p:cNvPicPr/>
          <p:nvPr/>
        </p:nvPicPr>
        <p:blipFill>
          <a:blip r:embed="rId1"/>
          <a:stretch/>
        </p:blipFill>
        <p:spPr>
          <a:xfrm>
            <a:off x="5268960" y="2722680"/>
            <a:ext cx="3886200" cy="2590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www.rounds.com/blog/wp-content/uploads/2010/08/6-rounds-tv.png"/>
          <p:cNvPicPr/>
          <p:nvPr/>
        </p:nvPicPr>
        <p:blipFill>
          <a:blip r:embed="rId2"/>
          <a:stretch/>
        </p:blipFill>
        <p:spPr>
          <a:xfrm>
            <a:off x="1981080" y="3768840"/>
            <a:ext cx="28083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met les chausseures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chausseures sont rogu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http://static.gamesradar.com/images/mb/GamesRadar/us/Daily/2010/11-Nov/11/Hedgehog%20shoes/hedgehog_in_shoes--article_image.jpg"/>
          <p:cNvPicPr/>
          <p:nvPr/>
        </p:nvPicPr>
        <p:blipFill>
          <a:blip r:embed="rId1"/>
          <a:stretch/>
        </p:blipFill>
        <p:spPr>
          <a:xfrm>
            <a:off x="3238560" y="3390840"/>
            <a:ext cx="59054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ne fait pas les devoirs!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est t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ès mauvais au françai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http://www.mohonasen.org/pw/teacher/kkelts/mytemplates/school_homework.gif"/>
          <p:cNvPicPr/>
          <p:nvPr/>
        </p:nvPicPr>
        <p:blipFill>
          <a:blip r:embed="rId1"/>
          <a:stretch/>
        </p:blipFill>
        <p:spPr>
          <a:xfrm>
            <a:off x="4968720" y="2046240"/>
            <a:ext cx="41529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sort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est en retard! Il dépeche quand il s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8" descr="http://www.officeclipart.com/office_clipart_images/worker_running_late_for_the_office_0521-1012-0921-2451_SMU.jpg"/>
          <p:cNvPicPr/>
          <p:nvPr/>
        </p:nvPicPr>
        <p:blipFill>
          <a:blip r:embed="rId1"/>
          <a:stretch/>
        </p:blipFill>
        <p:spPr>
          <a:xfrm>
            <a:off x="762120" y="4859280"/>
            <a:ext cx="1904760" cy="1998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http://files.vector-images.com/clipart/watch_prg1.gif"/>
          <p:cNvPicPr/>
          <p:nvPr/>
        </p:nvPicPr>
        <p:blipFill>
          <a:blip r:embed="rId2"/>
          <a:stretch/>
        </p:blipFill>
        <p:spPr>
          <a:xfrm>
            <a:off x="7620120" y="304920"/>
            <a:ext cx="1371600" cy="1428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http://hedgehogsbyvickie.com/images/NewColorsPage/SnowflakeHedgehog.jpg"/>
          <p:cNvPicPr/>
          <p:nvPr/>
        </p:nvPicPr>
        <p:blipFill>
          <a:blip r:embed="rId3"/>
          <a:stretch/>
        </p:blipFill>
        <p:spPr>
          <a:xfrm>
            <a:off x="4683240" y="3200400"/>
            <a:ext cx="36003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se réveille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ci Pierre. Il est un hérrison. Aujourd’hui, il faut aller à l’école. Mais il se réveille tar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7" descr="hedgehog_baby_with_mother-600x400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sleeping"/>
          <p:cNvPicPr/>
          <p:nvPr/>
        </p:nvPicPr>
        <p:blipFill>
          <a:blip r:embed="rId2"/>
          <a:stretch/>
        </p:blipFill>
        <p:spPr>
          <a:xfrm>
            <a:off x="4572000" y="2362320"/>
            <a:ext cx="4572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se leve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regarde la fois, et il se leve tout de sui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cute-baby-animals---zombie-hedgehog-wants-mealworrrms__"/>
          <p:cNvPicPr/>
          <p:nvPr/>
        </p:nvPicPr>
        <p:blipFill>
          <a:blip r:embed="rId1"/>
          <a:stretch/>
        </p:blipFill>
        <p:spPr>
          <a:xfrm>
            <a:off x="4422600" y="2895480"/>
            <a:ext cx="4721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prend un bain. 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’est nessacaire prendre un bain avant aller à l’école. Pierre vont dans le b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6" descr="hedgehog-bath_004_1"/>
          <p:cNvPicPr/>
          <p:nvPr/>
        </p:nvPicPr>
        <p:blipFill>
          <a:blip r:embed="rId1"/>
          <a:stretch/>
        </p:blipFill>
        <p:spPr>
          <a:xfrm>
            <a:off x="5105520" y="3200400"/>
            <a:ext cx="3657600" cy="279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balled_hedgehog"/>
          <p:cNvPicPr/>
          <p:nvPr/>
        </p:nvPicPr>
        <p:blipFill>
          <a:blip r:embed="rId2"/>
          <a:stretch/>
        </p:blipFill>
        <p:spPr>
          <a:xfrm>
            <a:off x="0" y="394344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s’habille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ne sait pas quoi mettre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tte chemise et ce chapeau sont très beaux!” Pierre d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hedgehog_elvis_sombrero_mexican1"/>
          <p:cNvPicPr/>
          <p:nvPr/>
        </p:nvPicPr>
        <p:blipFill>
          <a:blip r:embed="rId1"/>
          <a:stretch/>
        </p:blipFill>
        <p:spPr>
          <a:xfrm>
            <a:off x="4267080" y="2747880"/>
            <a:ext cx="487692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a fait son petit déjeuner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erre faut faire son petit déjeuner. Des gauffres sont très delicieux. Miam miam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7" descr="A-Hedgehog-at-Home"/>
          <p:cNvPicPr/>
          <p:nvPr/>
        </p:nvPicPr>
        <p:blipFill>
          <a:blip r:embed="rId1"/>
          <a:stretch/>
        </p:blipFill>
        <p:spPr>
          <a:xfrm>
            <a:off x="5273640" y="2362320"/>
            <a:ext cx="273996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met la table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 serviettes, des assiettes, des couverts, et des verres sont sur la tabl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Content Placeholder 1" descr=""/>
          <p:cNvPicPr/>
          <p:nvPr/>
        </p:nvPicPr>
        <p:blipFill>
          <a:blip r:embed="rId1"/>
          <a:stretch/>
        </p:blipFill>
        <p:spPr>
          <a:xfrm>
            <a:off x="4756320" y="2809800"/>
            <a:ext cx="3774960" cy="2828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http://www.ecokitchen.com/shop/images/grapeleafnapkingrings.jpg"/>
          <p:cNvPicPr/>
          <p:nvPr/>
        </p:nvPicPr>
        <p:blipFill>
          <a:blip r:embed="rId2"/>
          <a:stretch/>
        </p:blipFill>
        <p:spPr>
          <a:xfrm>
            <a:off x="6477120" y="3808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prend son petit déjeuner. 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l veux manger maintenant! Il a faim beauco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7" descr="hedgehog3"/>
          <p:cNvPicPr/>
          <p:nvPr/>
        </p:nvPicPr>
        <p:blipFill>
          <a:blip r:embed="rId1"/>
          <a:stretch/>
        </p:blipFill>
        <p:spPr>
          <a:xfrm>
            <a:off x="6019920" y="3247920"/>
            <a:ext cx="31240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7eced"/>
                </a:solidFill>
                <a:latin typeface="Arial"/>
              </a:rPr>
              <a:t>Il débrasse la table.</a:t>
            </a:r>
            <a:endParaRPr b="1" lang="en-US" sz="3600" spc="-1" strike="noStrike">
              <a:solidFill>
                <a:srgbClr val="e7eced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lave-vaisselle est plein. Toute la vaisselle est dans le lave-vaissel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http://whisper.net-genie.co.uk/siteimage/scale/0/0/89635.gif"/>
          <p:cNvPicPr/>
          <p:nvPr/>
        </p:nvPicPr>
        <p:blipFill>
          <a:blip r:embed="rId1"/>
          <a:stretch/>
        </p:blipFill>
        <p:spPr>
          <a:xfrm>
            <a:off x="5181480" y="2514600"/>
            <a:ext cx="3086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8:39:34Z</dcterms:created>
  <dc:creator>slatersar</dc:creator>
  <dc:description/>
  <dc:language>en-US</dc:language>
  <cp:lastModifiedBy>Brenna</cp:lastModifiedBy>
  <dcterms:modified xsi:type="dcterms:W3CDTF">2012-03-12T00:44:23Z</dcterms:modified>
  <cp:revision>7</cp:revision>
  <dc:subject/>
  <dc:title>Le Jour d’un Hérisson </dc:title>
</cp:coreProperties>
</file>